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0A3-4617-4185-8C10-357D8E23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C61-01A5-4703-9322-30616A9D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2A6-026E-460B-BBDD-5C3E0EEC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855-4390-4A5B-9344-BF19F4F8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D258-C5A1-4836-ACBE-C2D558D6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B04E-D55A-4189-B7AB-734BE4E5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6872-0B3D-4FF8-BADF-1F34C528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4C37-AE1E-446F-9551-6E6EE835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A0FB-F31A-4208-A8F2-A7284C1A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F3A4-6AA9-46B6-9B50-B8F46860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7D58-7A2D-491B-88A8-06397E9D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63F-4B41-472B-B6F1-F7CFEB10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8FB3-C785-416E-89BB-48EFA16D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824E-187F-4AFA-88F8-A563FB1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C072-0D0B-42CE-97D9-639713EB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B8CD-81B9-4275-A5BF-1574CE71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D7C5-3DC4-47C0-8399-0F32BAC0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405-E646-49CE-8920-4610E075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A87-24D9-4C0E-956C-776FD4F7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38A9-0F80-4FA6-A059-1A05025E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BDA-053C-4689-B3A9-728B69B8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84F-16CD-4794-BE0B-EF53C9A0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15C-D5CC-4539-87B2-F83948C2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2BB-9BB8-416A-9B87-2FFEF25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444600" indent="-444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880" indent="-389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908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6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B61-34F0-4629-AC21-E1B4FA624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97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9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098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300C-9F93-4873-B944-BAE77488A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16765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60300c"/>
                </a:solidFill>
                <a:latin typeface="Arial Black"/>
              </a:rPr>
              <a:t>  </a:t>
            </a:r>
            <a:r>
              <a:rPr b="0" lang="en-US" sz="5400" spc="-1" strike="noStrike">
                <a:solidFill>
                  <a:srgbClr val="60300c"/>
                </a:solidFill>
                <a:latin typeface="Arial Black"/>
              </a:rPr>
              <a:t>Culture</a:t>
            </a:r>
            <a:br>
              <a:rPr sz="5400"/>
            </a:br>
            <a:br>
              <a:rPr sz="2800"/>
            </a:br>
            <a:br>
              <a:rPr sz="2800"/>
            </a:b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Traditional and Global Culture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057400" y="2895480"/>
            <a:ext cx="64008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raditions and values have been passed on to you by your family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Recipes, quilts, stories, religion, kindness, giving to ch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1143000"/>
            <a:ext cx="5029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E-Journal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28800" y="2514600"/>
            <a:ext cx="701028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ditions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stoms, beliefs, opinions, and stories passed from one generation to anoth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al express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could include telling stories, such as how the world was cre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520" y="1218960"/>
            <a:ext cx="50292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Tradition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81080" y="2971800"/>
            <a:ext cx="68580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otion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osca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es, songs, da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cal Nee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dapting to physical environment) – moose meat, pewter jewlry, canoeing, ski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520" y="1219320"/>
            <a:ext cx="50292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Examples of Tradition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81080" y="2666880"/>
            <a:ext cx="6858000" cy="38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ditional cultu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s of a group established over many gene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eremonies that are part of a traditional culture and/or reli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rriage, Bar Mitzvah, sweat lod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00400" y="1143000"/>
            <a:ext cx="50292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Traditional Culture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666880" y="3276720"/>
            <a:ext cx="4800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view no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tomorrow’s quiz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1800" y="1523880"/>
            <a:ext cx="41148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Homework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20:51:47Z</dcterms:created>
  <dc:creator>Administrator</dc:creator>
  <dc:description/>
  <cp:keywords/>
  <dc:language>en-US</dc:language>
  <cp:lastModifiedBy>Administrator</cp:lastModifiedBy>
  <dcterms:modified xsi:type="dcterms:W3CDTF">2006-02-27T00:03:14Z</dcterms:modified>
  <cp:revision>12</cp:revision>
  <dc:subject/>
  <dc:title>       Culture   Traditional, Popular, and Global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31033</vt:lpwstr>
  </property>
</Properties>
</file>